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1298-3CC6-437F-9C3C-C98520D6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F5E-F22F-4A9B-938B-3DB71ACE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020-2F12-4B7B-8DF7-35D62301E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B3B-502E-4922-BB42-EB12320C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D86-8808-489D-A716-C6D8F612C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42D5-311D-4040-859A-CD21CAD2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06C4-50DD-497B-9828-B17EFA8E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8DD-189A-455E-959B-04628DC1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FC1-6FE1-493D-8DA3-2EE28D3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670-D25F-481A-B60D-108C7FC0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A22-5C58-4CB2-8E6A-53F22B8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9C7-F78B-4055-A31A-3BBE9B03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6DA6-8C33-4F06-A35F-C825FBC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234F-FA60-4E91-92B3-F25B44D0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33A-6F65-442D-8915-DDC2C1C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39A-72FF-4E4C-8D79-7EA1C5FB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DA22-57EA-412B-8152-AC16425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571B-4BDF-4B5A-BE3E-517583D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9D6-4EDA-4D8C-B1BC-CDB16FB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1AA9-0357-4F45-BD22-30EB13E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55D0-B391-40F5-8F5A-68EBB5A7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B72A-A06F-485D-A507-5DFB34D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382-2766-4641-99D4-182AEC12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3D6C-D624-4BEE-993D-3149AA38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2E04-8A4C-40DB-8DF6-BCA3D5C7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2473-BD71-4789-B5D1-194E0BBC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796E-A9F1-4D9D-88F2-1BC96D4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7E5A-E1CC-42C2-B7CC-6AF81B4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C426-7C50-46AC-8D36-CCEAFC0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DE7-E757-4F95-9B47-D3D6D79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5DBE-55D7-464B-BF3F-9EBDC2E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ADA9-D2D1-4126-AD6C-E7E8ADC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3378-ACDA-49DB-ACB8-AC11285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0017-98D8-4B4A-A93D-D27FF57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011D-666B-4BD4-B915-B16B5BC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429D-339B-4E03-A7F6-0C49AE9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D3EF-71DD-4AA3-8FED-4AB878F0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BC1CA-DEB6-41D4-A3E8-A53AD0F1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8F621-396D-428E-BEEB-DEA14174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FF123-9F46-4E02-9CC3-E898087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A9A-F785-47B7-9BD0-45303691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7DED4-6766-43BC-87F9-56D8AF8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83F3F-2212-4029-BA7F-6541CF23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49167-5379-486A-A90C-D305387E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EBF56-3999-45F7-87B3-929CFC4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F357C-95A3-4380-B7AA-3DDA9F1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C3216-FFB4-42A7-9F63-D903A772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63FA0-5FE5-4EDB-866C-AEF4A254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B231B-DF4C-4014-AB3A-9C49F496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5AB48-636A-4284-86F8-55D8C72B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812E-EBDC-434E-9F83-F279388E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429-EF0B-48D6-830F-A813A345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9EF3-1405-4848-9A76-23B9A09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5B91-69C8-4DBA-87D2-1ED6AA6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5620-0383-44B2-B6B2-9302150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E901-AEFB-43C3-8B39-B92769D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D100-CBC5-411E-9A6E-FA195D8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A9E7-1C8E-43D7-A12B-99DE3B2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50D3-5C54-4BDF-950B-76E8340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455E-F07F-49A2-B946-83FA7C5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C63B2-3C5E-44B7-8851-0E00F73E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3202-D07B-48B6-8C06-87D170F4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153-E714-44B5-BC55-D91C9B5A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2EF7-2481-4910-AFBD-EC8207E4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1B075-5519-4621-8B82-FA5D1707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719E0-9934-4FDD-B4CC-08D8A1AB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A6806-5773-4B06-B04C-9A82A67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A6E0F-2BE0-4D90-964F-0F0C58D7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0078A-CC02-419F-97A4-EE0E2D78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678DD-7270-4D0D-A21B-45BF9B5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0D44C-05A2-4FCC-8C8D-482949C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1A4D5-DF79-440B-AD66-0FD9E61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DD023-BAF3-421F-8F50-A1F9497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322-307E-4AF3-9C18-EA4B139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968EC-CF64-437A-B9E6-C22F8A1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14328-6BD4-47CF-BE99-5FDDA137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BBB37-AFA1-4B0E-BEA2-FF5DDD74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6E551-4807-4C6E-A183-6D73390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41316-0B7D-4F8E-A8E0-9E414942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13881-891E-4EF9-AB14-D1D37D6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EE75C-2F73-4F64-B8A9-61F00D34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1193D-D1B8-427A-B830-F560EAB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9FA2A-99B2-4B60-8F59-70D8684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05170-8A3A-4573-AEDA-47AA1F0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5F6-B73B-4901-BC59-CC7E134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A7779-CB6F-42A8-B57E-38EAC3B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762A0-FC90-46E6-83FC-A95033E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CB52B-AF55-47D6-9F5E-35A76DF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E810A-812F-40F1-87F2-3C791D07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DEE3F-1FE4-4116-945D-3263B47A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9B446-943E-4E47-95A3-6FE7FD77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8E99E-4F11-4BE8-ACB4-174D3998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656B5-0504-4BB0-BE5B-659B467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78D85-63B7-4CC4-BB41-8AE3F57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69B8D-B9C5-4714-9D73-816F269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C13-8AEF-4029-AEC4-A6288FB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7418F-8FFF-4A02-8728-A2523B4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51BF9-1D03-4FBB-BDAD-88CD830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2E8E6-3718-452B-AD12-215DA51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B6EA0C-2280-46E0-BF9B-FB95BF1A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C741C-DDA4-4438-BDBE-6653D164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69D9B-E697-4DC7-BD96-C4BD73CC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EB65D-49B5-4774-8317-C95A854D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8179-0B72-4EC7-9697-F49B59EF1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4B3A-A8BB-4433-B40B-A4FAFFF24C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8367-C504-4605-AD13-A7FD650D92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159-2CDD-44A7-9D74-7C05E0C738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A6D4-6CC8-4426-8A9F-F6418F89DC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186A-7B73-4CA5-AB24-AD14F146E2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A5F8-DF62-479A-B5FC-B2F71FFFF5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1E3-4E35-4AE3-AB0E-272DE589E5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1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CR, MIC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h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bi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co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fi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million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ohm.jpg"/>
          <p:cNvPicPr/>
          <p:nvPr/>
        </p:nvPicPr>
        <p:blipFill>
          <a:blip r:embed="rId1"/>
          <a:stretch/>
        </p:blipFill>
        <p:spPr>
          <a:xfrm>
            <a:off x="762120" y="50292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microbiology.jpg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microbiologyy.jpg"/>
          <p:cNvPicPr/>
          <p:nvPr/>
        </p:nvPicPr>
        <p:blipFill>
          <a:blip r:embed="rId3"/>
          <a:stretch/>
        </p:blipFill>
        <p:spPr>
          <a:xfrm>
            <a:off x="3581280" y="228600"/>
            <a:ext cx="1600200" cy="1190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microfilm.jpg"/>
          <p:cNvPicPr/>
          <p:nvPr/>
        </p:nvPicPr>
        <p:blipFill>
          <a:blip r:embed="rId4"/>
          <a:stretch/>
        </p:blipFill>
        <p:spPr>
          <a:xfrm>
            <a:off x="6172200" y="5029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rometer.jpg"/>
          <p:cNvPicPr/>
          <p:nvPr/>
        </p:nvPicPr>
        <p:blipFill>
          <a:blip r:embed="rId5"/>
          <a:stretch/>
        </p:blipFill>
        <p:spPr>
          <a:xfrm>
            <a:off x="3505320" y="480060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microphone.jpg"/>
          <p:cNvPicPr/>
          <p:nvPr/>
        </p:nvPicPr>
        <p:blipFill>
          <a:blip r:embed="rId6"/>
          <a:stretch/>
        </p:blipFill>
        <p:spPr>
          <a:xfrm>
            <a:off x="7162920" y="2362320"/>
            <a:ext cx="145728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microscope.jpg"/>
          <p:cNvPicPr/>
          <p:nvPr/>
        </p:nvPicPr>
        <p:blipFill>
          <a:blip r:embed="rId7"/>
          <a:stretch/>
        </p:blipFill>
        <p:spPr>
          <a:xfrm>
            <a:off x="7010280" y="228600"/>
            <a:ext cx="15336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LL, MILLI, M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llennium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u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year or years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li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millienium.jpg"/>
          <p:cNvPicPr/>
          <p:nvPr/>
        </p:nvPicPr>
        <p:blipFill>
          <a:blip r:embed="rId1"/>
          <a:stretch/>
        </p:blipFill>
        <p:spPr>
          <a:xfrm>
            <a:off x="6858000" y="4267080"/>
            <a:ext cx="1676520" cy="173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milligram.jpg"/>
          <p:cNvPicPr/>
          <p:nvPr/>
        </p:nvPicPr>
        <p:blipFill>
          <a:blip r:embed="rId2"/>
          <a:stretch/>
        </p:blipFill>
        <p:spPr>
          <a:xfrm>
            <a:off x="4419720" y="533412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million.jpg"/>
          <p:cNvPicPr/>
          <p:nvPr/>
        </p:nvPicPr>
        <p:blipFill>
          <a:blip r:embed="rId3"/>
          <a:stretch/>
        </p:blipFill>
        <p:spPr>
          <a:xfrm>
            <a:off x="320040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illipede.jpg"/>
          <p:cNvPicPr/>
          <p:nvPr/>
        </p:nvPicPr>
        <p:blipFill>
          <a:blip r:embed="rId4"/>
          <a:stretch/>
        </p:blipFill>
        <p:spPr>
          <a:xfrm>
            <a:off x="4191120" y="32767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millipedee.jpg"/>
          <p:cNvPicPr/>
          <p:nvPr/>
        </p:nvPicPr>
        <p:blipFill>
          <a:blip r:embed="rId5"/>
          <a:stretch/>
        </p:blipFill>
        <p:spPr>
          <a:xfrm>
            <a:off x="6553080" y="228600"/>
            <a:ext cx="18478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N, MO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c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ocul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he eye or eyes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oly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poly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ny; much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la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gam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logu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theis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state; quality; condition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l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monarch.jpg"/>
          <p:cNvPicPr/>
          <p:nvPr/>
        </p:nvPicPr>
        <p:blipFill>
          <a:blip r:embed="rId1"/>
          <a:stretch/>
        </p:blipFill>
        <p:spPr>
          <a:xfrm>
            <a:off x="6934320" y="1981080"/>
            <a:ext cx="1514520" cy="144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onocle.jpg"/>
          <p:cNvPicPr/>
          <p:nvPr/>
        </p:nvPicPr>
        <p:blipFill>
          <a:blip r:embed="rId2"/>
          <a:stretch/>
        </p:blipFill>
        <p:spPr>
          <a:xfrm>
            <a:off x="7315200" y="228600"/>
            <a:ext cx="119052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monoclee.jpg"/>
          <p:cNvPicPr/>
          <p:nvPr/>
        </p:nvPicPr>
        <p:blipFill>
          <a:blip r:embed="rId3"/>
          <a:stretch/>
        </p:blipFill>
        <p:spPr>
          <a:xfrm>
            <a:off x="3657600" y="3049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onologue.jpg"/>
          <p:cNvPicPr/>
          <p:nvPr/>
        </p:nvPicPr>
        <p:blipFill>
          <a:blip r:embed="rId4"/>
          <a:stretch/>
        </p:blipFill>
        <p:spPr>
          <a:xfrm>
            <a:off x="43434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monoplane.jpg"/>
          <p:cNvPicPr/>
          <p:nvPr/>
        </p:nvPicPr>
        <p:blipFill>
          <a:blip r:embed="rId5"/>
          <a:stretch/>
        </p:blipFill>
        <p:spPr>
          <a:xfrm>
            <a:off x="4572000" y="3505320"/>
            <a:ext cx="1257480" cy="876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monopoly.jpg"/>
          <p:cNvPicPr/>
          <p:nvPr/>
        </p:nvPicPr>
        <p:blipFill>
          <a:blip r:embed="rId6"/>
          <a:stretch/>
        </p:blipFill>
        <p:spPr>
          <a:xfrm>
            <a:off x="6248520" y="4343400"/>
            <a:ext cx="191448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T, MOR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d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4" descr="mortal.jpg"/>
          <p:cNvPicPr/>
          <p:nvPr/>
        </p:nvPicPr>
        <p:blipFill>
          <a:blip r:embed="rId1"/>
          <a:stretch/>
        </p:blipFill>
        <p:spPr>
          <a:xfrm>
            <a:off x="2133720" y="396252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mortuary.jpg"/>
          <p:cNvPicPr/>
          <p:nvPr/>
        </p:nvPicPr>
        <p:blipFill>
          <a:blip r:embed="rId2"/>
          <a:stretch/>
        </p:blipFill>
        <p:spPr>
          <a:xfrm>
            <a:off x="4572000" y="44197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ULT, MUL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oc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tud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ud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rge; consisting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multipedd.jpg"/>
          <p:cNvPicPr/>
          <p:nvPr/>
        </p:nvPicPr>
        <p:blipFill>
          <a:blip r:embed="rId1"/>
          <a:stretch/>
        </p:blipFill>
        <p:spPr>
          <a:xfrm>
            <a:off x="3352680" y="3352680"/>
            <a:ext cx="221004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multiped.jpg"/>
          <p:cNvPicPr/>
          <p:nvPr/>
        </p:nvPicPr>
        <p:blipFill>
          <a:blip r:embed="rId2"/>
          <a:stretch/>
        </p:blipFill>
        <p:spPr>
          <a:xfrm>
            <a:off x="5791320" y="51814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multipeddd.jpg"/>
          <p:cNvPicPr/>
          <p:nvPr/>
        </p:nvPicPr>
        <p:blipFill>
          <a:blip r:embed="rId3"/>
          <a:stretch/>
        </p:blipFill>
        <p:spPr>
          <a:xfrm>
            <a:off x="838080" y="4495680"/>
            <a:ext cx="1733760" cy="141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multiply.jpg"/>
          <p:cNvPicPr/>
          <p:nvPr/>
        </p:nvPicPr>
        <p:blipFill>
          <a:blip r:embed="rId4"/>
          <a:stretch/>
        </p:blipFill>
        <p:spPr>
          <a:xfrm>
            <a:off x="3581280" y="4876920"/>
            <a:ext cx="1514520" cy="189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multocular.jpg"/>
          <p:cNvPicPr/>
          <p:nvPr/>
        </p:nvPicPr>
        <p:blipFill>
          <a:blip r:embed="rId5"/>
          <a:stretch/>
        </p:blipFill>
        <p:spPr>
          <a:xfrm>
            <a:off x="6095880" y="3657600"/>
            <a:ext cx="2133720" cy="16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multocularr.jpg"/>
          <p:cNvPicPr/>
          <p:nvPr/>
        </p:nvPicPr>
        <p:blipFill>
          <a:blip r:embed="rId6"/>
          <a:stretch/>
        </p:blipFill>
        <p:spPr>
          <a:xfrm>
            <a:off x="6629400" y="457200"/>
            <a:ext cx="15811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11-04-08T19:53:52Z</dcterms:modified>
  <cp:revision>32</cp:revision>
  <dc:subject/>
  <dc:title>Roots List #1</dc:title>
</cp:coreProperties>
</file>